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F7B-78F5-4A49-8BC4-4AD69F05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9A5-EE4B-429B-88D4-31F82EC3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E25-FBA6-49B1-BD95-33ED5112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076-FFD8-414B-B405-F7F2ED93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130-4B13-4541-ADBD-DBB4358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D00-37B4-4D6F-8866-EAB0CF4E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D76-A5A6-4BE0-AB58-7FFA621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0C1-DC9A-4520-9737-E39A08B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6E5-BCCC-41D0-B65F-8886FFE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F40-FCA5-4A25-876F-33656BEA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13B-223C-4763-A6CE-585BC2D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405-886F-469E-A415-5260FCE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46C8-89D4-4F90-AF6C-856FC1519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eb.mit.edu/invent/iow/sillyputty.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38880" y="525312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#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990720"/>
            <a:ext cx="5181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ff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lly Put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ff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53360" y="239760"/>
            <a:ext cx="2385720" cy="2274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505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Invented by: Peter Hodg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utty head"/>
          <p:cNvPicPr/>
          <p:nvPr/>
        </p:nvPicPr>
        <p:blipFill>
          <a:blip r:embed="rId1">
            <a:lum bright="-6000"/>
          </a:blip>
          <a:srcRect l="-2362" t="12783" r="5999" b="4786"/>
          <a:stretch/>
        </p:blipFill>
        <p:spPr>
          <a:xfrm>
            <a:off x="228600" y="838080"/>
            <a:ext cx="2717640" cy="190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utty Man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40080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utty Fortress"/>
          <p:cNvPicPr/>
          <p:nvPr/>
        </p:nvPicPr>
        <p:blipFill>
          <a:blip r:embed="rId3"/>
          <a:stretch/>
        </p:blipFill>
        <p:spPr>
          <a:xfrm>
            <a:off x="4038480" y="533520"/>
            <a:ext cx="4524480" cy="20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3962520"/>
            <a:ext cx="457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Silly Putty,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1, 2011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sillyput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2895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ly Putty is fun to play 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Silly Pu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ly Putty picks up lint, dirt, pet hair, and can stabilize wobbly furni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ly Putty was a multi-million dollar se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for stress reduction and physical thera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 recognized name in over 95% of American house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retches further than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Peter Hodg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was unemployed and then found the idea of silly pu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ot lots of money from his i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it nutty putty then he changed it to silly pu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was fascinated with his in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19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28:10Z</dcterms:created>
  <dc:creator>install</dc:creator>
  <dc:description/>
  <dc:language>en-US</dc:language>
  <cp:lastModifiedBy>install</cp:lastModifiedBy>
  <dcterms:modified xsi:type="dcterms:W3CDTF">2011-01-14T17:11:40Z</dcterms:modified>
  <cp:revision>11</cp:revision>
  <dc:subject/>
  <dc:title>Slide 1</dc:title>
</cp:coreProperties>
</file>